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0C44-BFE4-4879-9B3F-E0395480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6C3A-ED45-497E-93B4-DF499FB1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E68F-AEBF-4E68-B223-705E7A8A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FCAC-C33C-418E-8C3B-CDEA047D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7FBE-BFB0-4F7A-B205-1ED325C2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9FD3-2394-4EA1-A02B-B99FA73F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A902-5BBF-4594-A282-8802D4B6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736F-0964-4582-ABCE-389271C2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8D34-EE6B-4203-8C33-D22234B8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7B61-A4C7-4603-8513-5CE9EF12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966B-102F-48F9-8156-596A8175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3ADC-1C97-447D-A86B-B898A0F7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63E4-15B4-4AA0-A4ED-493D823F5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755200" cy="5668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4"/>
          <a:stretch/>
        </p:blipFill>
        <p:spPr>
          <a:xfrm>
            <a:off x="539640" y="2421000"/>
            <a:ext cx="3975120" cy="635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5"/>
          <a:stretch/>
        </p:blipFill>
        <p:spPr>
          <a:xfrm>
            <a:off x="896760" y="3860640"/>
            <a:ext cx="3530880" cy="622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6"/>
          <a:stretch/>
        </p:blipFill>
        <p:spPr>
          <a:xfrm>
            <a:off x="34920" y="5300640"/>
            <a:ext cx="456408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6421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250920" y="513072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شر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 بعد المو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3"/>
          <a:stretch/>
        </p:blipFill>
        <p:spPr>
          <a:xfrm>
            <a:off x="231840" y="981000"/>
            <a:ext cx="8634240" cy="546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4"/>
          <a:stretch/>
        </p:blipFill>
        <p:spPr>
          <a:xfrm>
            <a:off x="250920" y="3789360"/>
            <a:ext cx="8605800" cy="134136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324000" y="1628640"/>
            <a:ext cx="856908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ؤية الله عز وجل والدليل 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4" descr=""/>
          <p:cNvPicPr/>
          <p:nvPr/>
        </p:nvPicPr>
        <p:blipFill>
          <a:blip r:embed="rId5"/>
          <a:stretch/>
        </p:blipFill>
        <p:spPr>
          <a:xfrm>
            <a:off x="2771640" y="2276640"/>
            <a:ext cx="61214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13"/>
          <a:stretch/>
        </p:blipFill>
        <p:spPr>
          <a:xfrm>
            <a:off x="539640" y="2276640"/>
            <a:ext cx="813600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-3240"/>
            <a:ext cx="9132840" cy="127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797200" y="4653000"/>
            <a:ext cx="35686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95400" y="828720"/>
            <a:ext cx="898344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675640" cy="460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4680" y="888840"/>
            <a:ext cx="9144000" cy="77004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005360"/>
            <a:ext cx="49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يسر إلى طريق الجنة من يشاء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4935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ن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954000"/>
            <a:ext cx="3601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يق غير المؤمنين وطريق المؤمني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43700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55166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وم القيامة نجمع جميع الخل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صنام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2700360" y="981000"/>
            <a:ext cx="4680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حمة الله بالعباد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عاهم إلى دار السلام ويسر سلوك طريقها وهدى من جد في طل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ؤية المؤمنين لربهم جل وعلا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ثب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رؤية المؤمنين لربهم جل وعلا في الآخرة 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61620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يجازي على السيئ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ثلها من غير تضعي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4078440"/>
            <a:ext cx="8665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وء السيئ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تورثه من حسرة وندامة وما توجبه من خسرا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456876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البعث والجز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2"/>
          <a:stretch/>
        </p:blipFill>
        <p:spPr>
          <a:xfrm>
            <a:off x="2484360" y="3030480"/>
            <a:ext cx="6335640" cy="40320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179280" y="506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بلاغة القرآن الكري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رض مشاهد القيامة وتصوير أحوال الآخرة كأنها رأي الع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553896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يعبده المشرك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علم بعبادتهم وسيكون عدواً لهم ويتبراً منهم يوم القيا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60278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عبادة غير الله سواء كان المعبود نبياً أو ولياً أو حجراً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8670960" cy="223200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324000" y="342900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ذا من سوء السيئة وما تورثه من حسرة وندامة وما توجبه من خسر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7T06:03:02Z</dcterms:modified>
  <cp:revision>1938</cp:revision>
  <dc:subject/>
  <dc:title>عرض تقديمي في PowerPoint</dc:title>
</cp:coreProperties>
</file>